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wmf" ContentType="image/x-wmf"/>
  <Override PartName="/ppt/media/image9.jpeg" ContentType="image/jpeg"/>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7.png" ContentType="image/png"/>
  <Override PartName="/ppt/media/image10.wmf" ContentType="image/x-wmf"/>
  <Override PartName="/ppt/media/image4.jpeg" ContentType="image/jpeg"/>
  <Override PartName="/ppt/media/image25.png" ContentType="image/png"/>
  <Override PartName="/ppt/media/image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7ECDC-12F3-4AAE-9E64-C6CEF117A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53B48-E662-42B3-B2D8-2457562E8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93E5F-8A50-4428-B758-6B66F421B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0F3A1-88C4-423E-A1EF-928F0BF26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1A8BD-4FDD-4B68-AE94-5D3310FD9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22DCB-2985-49B7-BF4E-C296056FB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5D46E-4B07-4FB3-9EDE-7962BCBD0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A7557-C4A1-4003-9E9B-CA4CBA4E7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6FEE5-EF9F-4B25-B9F3-E32B8645A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E863B-8C3D-4A0C-A243-64C18AE8B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4DA12-DFA4-459F-A0DE-1AEFBDB81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08673-FF6F-4354-B901-6FEFA490E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C8C42-63BF-42BE-B6F2-B1A6FE718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C53BA-3B1A-4CD8-A36E-9BC5EB193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3F4C4-A3B9-4647-BE7C-3F6C9A090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02109-60E1-448A-84FE-FED5ACFFD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9FDD6-1D98-457D-835A-49DC6FBB3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FB27B8-055A-47A8-824B-7B57255694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D60534-6491-4FC1-BC66-D6FE51AA0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C08B41-F45F-4888-9A71-5F5564664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CB590-91E2-42BC-B56C-ADFEB1083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26FD1-4FFE-4799-B325-FC600D0B2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719BA-B964-4474-BD5C-8B2563B96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983546-05DD-48C5-8895-FECB50A17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E1A34-7D29-4079-9139-EFC2B5541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79ADDF-5CCE-4C4A-A090-7EA4B54E5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1C2A5-EC2D-445F-A591-6173DE66F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03852-6ECC-4EFE-8055-21E7CC95B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BD3098-B317-4177-A7E9-13424EBB89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6ACA9A-8153-4078-9B9E-F3AF2FB2C5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6296DA-4ED4-46CA-AB53-D94F4A5BE0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CC5BB7-FE79-495D-A34C-875E007D7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51607-0E50-4A7B-BB0A-F893C1CBB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858CB-85BD-432D-A5E8-B6AE81A4B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8067E-29BD-44E1-8DE4-FC053E2066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B587CC-2F08-49AC-AC3F-90713F8062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8CA3C6-8306-42F3-AFF5-33589F367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1DC22-8213-4964-8F74-ACE0E94C8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35B0C-62F8-4A64-9986-1E376F82F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C42E3-5B4D-4448-AFBA-20BEEF5E8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C839EA-EEE4-41F4-8B04-0AC259564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FCCCFC-B2F0-451F-81C4-D920B72842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A71D30-313F-44DE-AF65-599B4C0443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44BCBE-9D9D-4EE4-979D-D8127DAF6A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159AD-BBE7-4846-84CD-FEB15FD23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79F85-B4A1-4EA6-BCE2-3A64D2E02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497E6-DE0A-481E-95F4-51F7874292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6B5DFC-9239-460B-BE21-F20288D25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7471F-C822-46CC-B8AC-600C524B1C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66D96D-92AE-49E1-95E4-2DDE4504EE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247FE-1B1F-44AF-B006-772BDE875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65C28-13E6-4490-AF74-1DFBDF8BB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389CE-E2F4-4554-A386-B4AC46739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63177-C3F1-48E1-8770-DEA227EAF1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E05354-8EEC-4405-B248-BA3165665D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A09F9-DD23-4758-AF51-BAC6EDE1C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8E748A-9A57-48DF-A22C-317DBA4345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8B4B8-7C87-4D75-A849-3C89EADB4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67C34-B6D1-4610-A15B-04BDF89F5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BCC5C-203F-4814-ADDB-111458F9B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9C55-548B-489F-BC49-E78456F4A631}" type="slidenum">
              <a:rPr b="0" lang="en-CA"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6954-7853-4E24-882E-9F08EA8867C5}" type="slidenum">
              <a:rPr b="0" lang="en-CA"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E3ED-AFE8-4B3F-B931-89F245E6CFF5}" type="slidenum">
              <a:rPr b="0" lang="en-CA"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0073-D3B9-48C0-ACFB-E6508035DD3A}" type="slidenum">
              <a:rPr b="0" lang="en-CA"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209F-DF45-48A4-8BBE-1B09911D4DC6}" type="slidenum">
              <a:rPr b="0" lang="en-CA"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My Animal Template for Lesson Plan.ppt"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ducationworld.com/a_tech/techlp/techlp055.shtml" TargetMode="External"/><Relationship Id="rId3" Type="http://schemas.openxmlformats.org/officeDocument/2006/relationships/hyperlink" Target="http://www.educationworld.com/a_tech/techlp/techlp054.shtml" TargetMode="External"/><Relationship Id="rId4" Type="http://schemas.openxmlformats.org/officeDocument/2006/relationships/hyperlink" Target="http://www.educationworld.com/a_tech/techlp/techlp032.shtml"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3" descr=""/>
          <p:cNvPicPr/>
          <p:nvPr/>
        </p:nvPicPr>
        <p:blipFill>
          <a:blip r:embed="rId1"/>
          <a:stretch/>
        </p:blipFill>
        <p:spPr>
          <a:xfrm>
            <a:off x="3425760" y="530280"/>
            <a:ext cx="540720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roups 2 and 3</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4" descr=""/>
          <p:cNvPicPr/>
          <p:nvPr/>
        </p:nvPicPr>
        <p:blipFill>
          <a:blip r:embed="rId1"/>
          <a:stretch/>
        </p:blipFill>
        <p:spPr>
          <a:xfrm>
            <a:off x="450720" y="317520"/>
            <a:ext cx="7255080" cy="11509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1 – Open PowerPoint that is provided by Teacher </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de66"/>
                </a:solidFill>
                <a:uFillTx/>
                <a:latin typeface="Trebuchet MS"/>
                <a:hlinkClick r:id="rId2"/>
              </a:rPr>
              <a:t>My Animal Template for Lesson Plan.ppt</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2 – Add your name to the text box at the bottom of the slide.</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3 – Change the WordArt title to your animal’s name and insert a picture of your animal.</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4 – Scroll down to the next slide, Habitat and insert a picture of your animal in its habitat.</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5 – Click on textbox to  write a description about your animal’s habitat</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6 – Scroll down to the next slide and repeat the steps above.</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7 – Complete the rest of the slides using the steps above.</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8 – Save and Print</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ep 9 – Present to the class.</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450720" y="317520"/>
            <a:ext cx="7255080" cy="1150920"/>
          </a:xfrm>
          <a:prstGeom prst="rect">
            <a:avLst/>
          </a:prstGeom>
          <a:ln w="0">
            <a:noFill/>
          </a:ln>
        </p:spPr>
      </p:pic>
      <p:sp>
        <p:nvSpPr>
          <p:cNvPr id="248" name=""/>
          <p:cNvSpPr txBox="1"/>
          <p:nvPr/>
        </p:nvSpPr>
        <p:spPr>
          <a:xfrm>
            <a:off x="457200" y="1609200"/>
            <a:ext cx="7238880" cy="48466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Students will be assessed on their ability to:</a:t>
            </a:r>
            <a:endParaRPr b="0" lang="en-US" sz="26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age time when doing their research</a:t>
            </a:r>
            <a:endParaRPr b="0" lang="en-US" sz="24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de accurate information from appropriate websites that pertains to their animal</a:t>
            </a:r>
            <a:endParaRPr b="0" lang="en-US" sz="24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lude a well written description using complete sentences and a picture from the Internet and/or Clip Art on each slide.</a:t>
            </a:r>
            <a:endParaRPr b="0" lang="en-US" sz="24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59200" indent="-25920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sent their PowerPoint in a clear and easy to understand manner to their classmat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44440" y="291960"/>
            <a:ext cx="7461360" cy="117648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lative advantages of using technology in this lesson:</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continue to increase their familiarity with the internet as a research tool.</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become competent users of PowerPoint as a presentation tool.</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increase their capabilities of working collaborativel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develop their creativity and innovation skills during this proces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212760" y="317520"/>
            <a:ext cx="7493040" cy="115092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anchor="t">
            <a:normAutofit fontScale="95000"/>
          </a:bodyPr>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ch-PACK (technological pedagogical content knowledge) for this lesson plan:</a:t>
            </a:r>
            <a:endParaRPr b="0" lang="en-US" sz="2600" spc="-1" strike="noStrike">
              <a:solidFill>
                <a:srgbClr val="000000"/>
              </a:solidFill>
              <a:latin typeface="Trebuchet MS"/>
            </a:endParaRPr>
          </a:p>
          <a:p>
            <a:pPr lvl="1" marL="494280" indent="-2170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ntent knowledge (CK) is adequate since this is a grade 3-5 science outcome and information gleaned from the internet will be current.</a:t>
            </a:r>
            <a:endParaRPr b="0" lang="en-US" sz="2300" spc="-1" strike="noStrike">
              <a:solidFill>
                <a:srgbClr val="6c6c6c"/>
              </a:solidFill>
              <a:latin typeface="Trebuchet MS"/>
            </a:endParaRPr>
          </a:p>
          <a:p>
            <a:pPr lvl="1" marL="494280" indent="-2170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edagogical knowledge (PK) is sufficient since teachers were provided recent in-service on inquiry-based and project-based learning as well as on the new grades 4 and 5 science curricula.</a:t>
            </a:r>
            <a:endParaRPr b="0" lang="en-US" sz="2300" spc="-1" strike="noStrike">
              <a:solidFill>
                <a:srgbClr val="6c6c6c"/>
              </a:solidFill>
              <a:latin typeface="Trebuchet MS"/>
            </a:endParaRPr>
          </a:p>
          <a:p>
            <a:pPr lvl="1" marL="494280" indent="-2170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r>
              <a:rPr b="0" lang="en-US" sz="2300" spc="-1" strike="noStrike">
                <a:solidFill>
                  <a:srgbClr val="6c6c6c"/>
                </a:solidFill>
                <a:latin typeface="Trebuchet MS"/>
              </a:rPr>
              <a:t>Technological knowledge (TK) is sufficient since teachers have been using the internet and PowerPoint for a number of year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244440" y="291960"/>
            <a:ext cx="7461360" cy="117648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bjective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objectives clearly and concisely describe the expectations for what the technology-based methods will achieve.</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ssess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students’ abilities to be assessed are clearly outlined in the plan.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appropriate grade level provincial writing rubric will be used to assess writing qualit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rade level achievement standards will be used to assess speaking and listening skills during the presentations.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gration:</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content approach will be interdisciplinary in nature in that science, language arts and technology outcomes will be learned in a primarily constructivist environmen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work in pairs so as to promote collaboration as well as peer tutoring.</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will work in pairs due to the limited access to classroom computer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hole class teaching of the six traits of writing using various genres is ongoing during the writing workshop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212760" y="317520"/>
            <a:ext cx="7493040" cy="115092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earning environ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efore allowing students to begin, whole-class tutorials will be provided by the teacher to demonstrate various elementary steps of PowerPoint using the Smart Board or LCD projector.</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eacher-directed tutorials will be provided to model the process of navigating the internet to gather information specific to an assigned topic as well as the process of downloading pictures from the internet.</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212760" y="317520"/>
            <a:ext cx="7493040" cy="115092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anchor="t">
            <a:normAutofit/>
          </a:bodyPr>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lassroom computers are working and the Help Desk is available in the event that a technical problem arise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EPs are in place and appropriate software has been installed on classroom computers for use by students with special need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rotating schedule has been set up so as to allow pairs of students adequate time each week to work on this projec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know their password and student user names for the purpose of saving their work.</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44440" y="291960"/>
            <a:ext cx="7461360" cy="1176480"/>
          </a:xfrm>
          <a:prstGeom prst="rect">
            <a:avLst/>
          </a:prstGeom>
          <a:ln w="0">
            <a:noFill/>
          </a:ln>
        </p:spPr>
      </p:pic>
      <p:sp>
        <p:nvSpPr>
          <p:cNvPr id="26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ere the objectives achieved?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view the objectives set out in the plan and decide if the quality of the students’ PowerPoint presentations demonstrate these objective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view observation data to assist in assessing how comfortable the students are at accessing the internet, downloading pictures and using PowerPoin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at do students sa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ve an informal discussion with students about how the project went, how much they learned, and what suggestions they have for improvements to the assignment.</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     </a:t>
            </a:r>
            <a:endParaRPr b="0" lang="en-US" sz="2300" spc="-1" strike="noStrike">
              <a:solidFill>
                <a:srgbClr val="6c6c6c"/>
              </a:solidFill>
              <a:latin typeface="Trebuchet MS"/>
            </a:endParaRPr>
          </a:p>
          <a:p>
            <a:pPr lvl="2" marL="75888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0720" y="317520"/>
            <a:ext cx="7255080" cy="1150920"/>
          </a:xfrm>
          <a:prstGeom prst="rect">
            <a:avLst/>
          </a:prstGeom>
          <a:ln w="0">
            <a:noFill/>
          </a:ln>
        </p:spPr>
      </p:pic>
      <p:sp>
        <p:nvSpPr>
          <p:cNvPr id="223"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three lesson plans we chose came from the website educationworld.com</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on One – The Bird Can Blog: Online Writing with a Twist. (Grades 3-5)</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2"/>
              </a:rPr>
              <a:t>http://www.educationworld.com/a_tech/techlp/techlp055.shtml</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on Two - Scriptwriting with a Wiki (Grades 6-8)</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3"/>
              </a:rPr>
              <a:t>http://www.educationworld.com/a_tech/techlp/techlp054.shtml</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on Three – A Favorite Poem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Grades 9-12)</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66"/>
                </a:solidFill>
                <a:uFillTx/>
                <a:latin typeface="Trebuchet MS"/>
                <a:hlinkClick r:id="rId4"/>
              </a:rPr>
              <a:t>http://www.educationworld.com/a_tech/techlp/techlp032.shtml</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212760" y="317520"/>
            <a:ext cx="7493040" cy="1150920"/>
          </a:xfrm>
          <a:prstGeom prst="rect">
            <a:avLst/>
          </a:prstGeom>
          <a:ln w="0">
            <a:noFill/>
          </a:ln>
        </p:spPr>
      </p:pic>
      <p:sp>
        <p:nvSpPr>
          <p:cNvPr id="26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uld improving the environment improve result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ssess classroom computer use.  Did the schedule work?  Was enough time provided?  Did the hardware endure?  Was the Help Desk required?  Were the students able to collaborate efficiently given the limited computer access and availability?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ow well has the technology integration strategy worke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ve the students performed well?  Is there a noticeable difference in their research skills and writing abilities due to the use of the internet and PowerPoint?</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oes the observation data reveal that students are more motivated due to the use of technology?  Did they enjoy their experienc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o the students want to continue to implement technology into their project-based learning?</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at could be improved to make the technology integration strategy work better?</a:t>
            </a:r>
            <a:endParaRPr b="0" lang="en-US" sz="2600" spc="-1" strike="noStrike">
              <a:solidFill>
                <a:srgbClr val="000000"/>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tend to want more access to the computer.  Is there a way to schedule more time for computer-assisted project work?  Perhaps supervised recess and lunch appointments are possible.</a:t>
            </a:r>
            <a:endParaRPr b="0" lang="en-US" sz="23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Students like to work alone sometimes rather than share a computer.  Could a scheduling change accommodate this?</a:t>
            </a:r>
            <a:endParaRPr b="0" lang="en-US" sz="23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t takes time for students to learn technological tools.  Could the previous grade teacher begin to teach these skills?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12760" y="317520"/>
            <a:ext cx="7493040" cy="115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there revisions that need to be mad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s more teacher-directed instruction regarding technology usage required before the actual project begin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ere the instructions clear enough for the students to work relatively independently without a great deal of teacher assistance?</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id the students share ideas and assist each other well?</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Did the assessment criteria adequately evaluate the finished product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450720" y="317520"/>
            <a:ext cx="7255080" cy="1150920"/>
          </a:xfrm>
          <a:prstGeom prst="rect">
            <a:avLst/>
          </a:prstGeom>
          <a:ln w="0">
            <a:noFill/>
          </a:ln>
        </p:spPr>
      </p:pic>
      <p:sp>
        <p:nvSpPr>
          <p:cNvPr id="27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nglish Language Arts Curriculum, Elementary K-3, New Brunswick Department of Education Curriculum Development Branch, New Brunswick, 1998</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oblyer, M.D. and Doering, H. Aaron., Integrating Educational Technology into Teaching, 6</a:t>
            </a:r>
            <a:r>
              <a:rPr b="0" lang="en-US" sz="1800" spc="-1" strike="noStrike" baseline="30000">
                <a:solidFill>
                  <a:srgbClr val="000000"/>
                </a:solidFill>
                <a:latin typeface="Trebuchet MS"/>
              </a:rPr>
              <a:t>th</a:t>
            </a:r>
            <a:r>
              <a:rPr b="0" lang="en-US" sz="1800" spc="-1" strike="noStrike">
                <a:solidFill>
                  <a:srgbClr val="000000"/>
                </a:solidFill>
                <a:latin typeface="Trebuchet MS"/>
              </a:rPr>
              <a:t> Edition, 2010 Pearson Education Canada</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0720" y="291960"/>
            <a:ext cx="7255080" cy="1176480"/>
          </a:xfrm>
          <a:prstGeom prst="rect">
            <a:avLst/>
          </a:prstGeom>
          <a:ln w="0">
            <a:noFill/>
          </a:ln>
        </p:spPr>
      </p:pic>
      <p:sp>
        <p:nvSpPr>
          <p:cNvPr id="225" name=""/>
          <p:cNvSpPr txBox="1"/>
          <p:nvPr/>
        </p:nvSpPr>
        <p:spPr>
          <a:xfrm>
            <a:off x="457200" y="152352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sson 1 – The Bird Can Blog</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226" name="Object 4" descr=""/>
          <p:cNvPicPr/>
          <p:nvPr/>
        </p:nvPicPr>
        <p:blipFill>
          <a:blip r:embed="rId2"/>
          <a:stretch/>
        </p:blipFill>
        <p:spPr>
          <a:xfrm>
            <a:off x="2590920" y="2362320"/>
            <a:ext cx="2577960" cy="761760"/>
          </a:xfrm>
          <a:prstGeom prst="rect">
            <a:avLst/>
          </a:prstGeom>
          <a:ln w="0">
            <a:noFill/>
          </a:ln>
        </p:spPr>
      </p:pic>
      <p:pic>
        <p:nvPicPr>
          <p:cNvPr id="227" name="Picture 5" descr="C:\Users\susan.marshall\AppData\Local\Microsoft\Windows\Temporary Internet Files\Content.IE5\EQT51C70\MP900446581[1].jpg"/>
          <p:cNvPicPr/>
          <p:nvPr/>
        </p:nvPicPr>
        <p:blipFill>
          <a:blip r:embed="rId3"/>
          <a:stretch/>
        </p:blipFill>
        <p:spPr>
          <a:xfrm>
            <a:off x="2362320" y="3809880"/>
            <a:ext cx="3078000" cy="237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800" spc="-1" strike="noStrike">
              <a:solidFill>
                <a:srgbClr val="000000"/>
              </a:solidFill>
              <a:latin typeface="Trebuchet MS"/>
            </a:endParaRPr>
          </a:p>
        </p:txBody>
      </p:sp>
      <p:sp>
        <p:nvSpPr>
          <p:cNvPr id="229" name=""/>
          <p:cNvSpPr txBox="1"/>
          <p:nvPr/>
        </p:nvSpPr>
        <p:spPr>
          <a:xfrm>
            <a:off x="457200" y="159984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sson 2 – Scriptwriting with a Wiki</a:t>
            </a:r>
            <a:endParaRPr b="0" lang="en-US" sz="32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0" name="Object 6" descr=""/>
          <p:cNvPicPr/>
          <p:nvPr/>
        </p:nvPicPr>
        <p:blipFill>
          <a:blip r:embed="rId1"/>
          <a:stretch/>
        </p:blipFill>
        <p:spPr>
          <a:xfrm>
            <a:off x="2971800" y="2286000"/>
            <a:ext cx="1968480" cy="838080"/>
          </a:xfrm>
          <a:prstGeom prst="rect">
            <a:avLst/>
          </a:prstGeom>
          <a:ln w="0">
            <a:noFill/>
          </a:ln>
        </p:spPr>
      </p:pic>
      <p:pic>
        <p:nvPicPr>
          <p:cNvPr id="231" name="Picture 8" descr="C:\Users\susan.marshall\AppData\Local\Microsoft\Windows\Temporary Internet Files\Content.IE5\D8SU6W34\MC900290369[1].wmf"/>
          <p:cNvPicPr/>
          <p:nvPr/>
        </p:nvPicPr>
        <p:blipFill>
          <a:blip r:embed="rId2"/>
          <a:stretch/>
        </p:blipFill>
        <p:spPr>
          <a:xfrm>
            <a:off x="2514600" y="3657600"/>
            <a:ext cx="2822400" cy="265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800" spc="-1" strike="noStrike">
              <a:solidFill>
                <a:srgbClr val="000000"/>
              </a:solidFill>
              <a:latin typeface="Trebuchet MS"/>
            </a:endParaRPr>
          </a:p>
        </p:txBody>
      </p:sp>
      <p:sp>
        <p:nvSpPr>
          <p:cNvPr id="233"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sson 3 – A Favorite Poem</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4" name="Object 5" descr=""/>
          <p:cNvPicPr/>
          <p:nvPr/>
        </p:nvPicPr>
        <p:blipFill>
          <a:blip r:embed="rId1"/>
          <a:stretch/>
        </p:blipFill>
        <p:spPr>
          <a:xfrm>
            <a:off x="2438280" y="2438280"/>
            <a:ext cx="3276720" cy="1143000"/>
          </a:xfrm>
          <a:prstGeom prst="rect">
            <a:avLst/>
          </a:prstGeom>
          <a:ln w="0">
            <a:noFill/>
          </a:ln>
        </p:spPr>
      </p:pic>
      <p:pic>
        <p:nvPicPr>
          <p:cNvPr id="235" name="Picture 6" descr="C:\Users\susan.marshall\AppData\Local\Microsoft\Windows\Temporary Internet Files\Content.IE5\FSHE5FBD\MC900282290[1].wmf"/>
          <p:cNvPicPr/>
          <p:nvPr/>
        </p:nvPicPr>
        <p:blipFill>
          <a:blip r:embed="rId2"/>
          <a:stretch/>
        </p:blipFill>
        <p:spPr>
          <a:xfrm>
            <a:off x="3124080" y="4114800"/>
            <a:ext cx="1897200" cy="210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0720" y="317520"/>
            <a:ext cx="725508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rebuchet MS"/>
              </a:rPr>
              <a:t>Animal Report PowerPoint Present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rief Description</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Students will explore and locate specific information pertaining  to animals using the internet as their search tool. They will then incorporate this into a PowerPoint Presentation to share with their peers.</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rades</a:t>
            </a:r>
            <a:r>
              <a:rPr b="0" lang="en-US" sz="2000" spc="-1" strike="noStrike">
                <a:solidFill>
                  <a:srgbClr val="000000"/>
                </a:solidFill>
                <a:latin typeface="Trebuchet MS"/>
              </a:rPr>
              <a:t> – 3-5</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uration</a:t>
            </a:r>
            <a:r>
              <a:rPr b="0" lang="en-US" sz="2000" spc="-1" strike="noStrike">
                <a:solidFill>
                  <a:srgbClr val="000000"/>
                </a:solidFill>
                <a:latin typeface="Trebuchet MS"/>
              </a:rPr>
              <a:t> – One Mont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800" spc="-1" strike="noStrike">
              <a:solidFill>
                <a:srgbClr val="000000"/>
              </a:solidFill>
              <a:latin typeface="Trebuchet MS"/>
            </a:endParaRPr>
          </a:p>
        </p:txBody>
      </p:sp>
      <p:sp>
        <p:nvSpPr>
          <p:cNvPr id="239" name=""/>
          <p:cNvSpPr txBox="1"/>
          <p:nvPr/>
        </p:nvSpPr>
        <p:spPr>
          <a:xfrm>
            <a:off x="457200" y="167616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bjectives</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udents will:</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igate the internet by using a variety of search engines to gather information about the animal of their choic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will use the PowerPoint template given to them to report their findings about their animal</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download pictures from the internet to attach to their Presentation</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aterials Needed</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student access to word processing and internet</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Smart Board or LCD projector for the teacher to us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3" descr=""/>
          <p:cNvPicPr/>
          <p:nvPr/>
        </p:nvPicPr>
        <p:blipFill>
          <a:blip r:embed="rId1"/>
          <a:stretch/>
        </p:blipFill>
        <p:spPr>
          <a:xfrm>
            <a:off x="450720" y="317520"/>
            <a:ext cx="7255080" cy="1150920"/>
          </a:xfrm>
          <a:prstGeom prst="rect">
            <a:avLst/>
          </a:prstGeom>
          <a:ln w="0">
            <a:noFill/>
          </a:ln>
        </p:spPr>
      </p:pic>
      <p:sp>
        <p:nvSpPr>
          <p:cNvPr id="241" name=""/>
          <p:cNvSpPr txBox="1"/>
          <p:nvPr/>
        </p:nvSpPr>
        <p:spPr>
          <a:xfrm>
            <a:off x="456840" y="1600200"/>
            <a:ext cx="3521160" cy="452592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NETS for Teachers:</a:t>
            </a:r>
            <a:endParaRPr b="0" lang="en-US" sz="2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 1 – Facilitate and Inspire Student Learning and Creativity</a:t>
            </a: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 2 – Design and Develop Digital Age Learning Experiences and Assessments</a:t>
            </a: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 3 – Model Digital-Age Work and Learning</a:t>
            </a: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0920" indent="-2509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 4 – Promote and Model Digital Citizenship and Responsibility</a:t>
            </a:r>
            <a:endParaRPr b="0" lang="en-US" sz="1800" spc="-1" strike="noStrike">
              <a:solidFill>
                <a:srgbClr val="000000"/>
              </a:solidFill>
              <a:latin typeface="Trebuchet MS"/>
            </a:endParaRPr>
          </a:p>
        </p:txBody>
      </p:sp>
      <p:sp>
        <p:nvSpPr>
          <p:cNvPr id="242" name=""/>
          <p:cNvSpPr txBox="1"/>
          <p:nvPr/>
        </p:nvSpPr>
        <p:spPr>
          <a:xfrm>
            <a:off x="4177800" y="1600200"/>
            <a:ext cx="3521160" cy="452592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NETS for Students: </a:t>
            </a:r>
            <a:endParaRPr b="0" lang="en-US" sz="28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 1 – Creativity and Innovation</a:t>
            </a:r>
            <a:endParaRPr b="0" lang="en-US" sz="20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 2 – Communication and Collaboration</a:t>
            </a: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 3 – Research and Information Fluency</a:t>
            </a: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 6 – Technology Operations and Concep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4" descr=""/>
          <p:cNvPicPr/>
          <p:nvPr/>
        </p:nvPicPr>
        <p:blipFill>
          <a:blip r:embed="rId1"/>
          <a:stretch/>
        </p:blipFill>
        <p:spPr>
          <a:xfrm>
            <a:off x="450720" y="317520"/>
            <a:ext cx="7255080" cy="115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rebuchet MS"/>
              </a:rPr>
              <a:t>(GCO8) Students will be expected to use writing and other forms of representation to explore, clarify, and reflect on their thoughts, feelings, experiences and learnings; and to use their imaginations. </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rebuchet MS"/>
              </a:rPr>
              <a:t> </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Trebuchet MS"/>
              </a:rPr>
              <a:t>(GCO9)Students will be able to create texts collaboratively and independently, using a variety of forms for a range of audiences and purposes.</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CO10) Students will be expected to use a range of strategies to develop effective writing and media products to enhance their clarity, precision, and effectiveness.</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7:09:14Z</dcterms:created>
  <dc:creator>ladmin</dc:creator>
  <dc:description/>
  <dc:language>en-US</dc:language>
  <cp:lastModifiedBy>Mike</cp:lastModifiedBy>
  <dcterms:modified xsi:type="dcterms:W3CDTF">2012-07-10T01:03:06Z</dcterms:modified>
  <cp:revision>60</cp:revision>
  <dc:subject/>
  <dc:title>Chapter 4 – Activity 2 &amp; 3</dc:title>
</cp:coreProperties>
</file>